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BCE-A3BB-49EF-AF9D-63D068C6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BED-9EC4-43CA-817C-235BF9DD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8D7-6D0D-45F5-9106-C59C7A10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529-D378-4116-8CD3-E5F3B7E9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4344-DA81-47F3-9813-4C85A0B6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059B-452F-40A5-8156-9EEB4CEA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5AD5-AC62-4315-9664-FD6ED780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D361-7832-48E8-AA11-C3826713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DBA4-130D-4810-95AA-06EC4ACE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9440-C477-4D43-BE45-51637A4A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1129-63E6-4EF9-AB3E-5418A3C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4DB-2358-4FF0-8D37-3A61A74A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63F3-C214-43AD-8101-B72F26E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1E0F-FC6B-47E0-BAD8-5966C033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9149-07DD-4E75-95AA-F78A6E29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5FAE-8114-488E-BACC-F42D0548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523A-F6CF-47D8-8524-0B2BC559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5452-82D3-4393-BCEB-CA45B4A2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93C9-FADE-42F5-B2BA-E9D5B85E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4C44-9879-42C0-ABD0-47447188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8D03-2775-4656-814A-DFBF9E83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9E6B-AA5D-4D7B-95E9-B33EF0B0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6AC-3ABB-42FD-B864-D2F6B404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E522D-29EF-49B4-8ED6-B6F94833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1A69-5A71-4219-BE15-C36B390A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A171-45D9-4DDB-8104-26D8875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1161C-90FF-4442-AC44-57C3C487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5246-0672-43E2-9381-B2E258DF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48AC-6A23-4AE3-97CB-6C0E5148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6657-F9F6-4EC9-BCAF-F8D59B6E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9D8CE-7EA2-4901-ADA7-840D9897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B82E8-FC04-46D1-831F-1A010EC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8EDB-4C69-40AB-A65C-C78858AA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D33-C5E9-4532-AF4E-8D171C7C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ECF37-326B-4701-B181-B218B66B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B585-3DF2-4530-80F3-EFDBF1C4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E573-EA4B-467D-AE7D-E699EFC9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1481-CE73-4D13-9178-F7F3C4D4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0BC8-5EE6-40FC-A0F0-30360107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57C48-0576-4F55-A8ED-A229E8B0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CA1E-04E7-4448-BA06-E6D20F18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374D-DB58-4BFA-842F-EA08C24A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9654-49C9-4F54-957A-A537B4A7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6C6B-B78D-4A34-829F-6094784E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B47-F49B-4B97-BA82-9629359D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FF27C-4335-4796-A5D0-2C7870AF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DAE11-6A51-4AC6-A095-79E19E38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A7FEB-3EA8-4714-8176-1978957F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F7AE9-D0B3-4A60-B0D2-59A5888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D748B-6A06-4646-8E7B-D6D13927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E762-C345-4311-A7F8-5296E4E9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FF7D-AAE4-4A96-BEE8-8016E0D0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E94E-0EAC-4878-805C-FFE34828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646F-0977-40F8-A9BF-9A36147F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2239-9484-441D-A961-E9C6528D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857-ED0E-4FB0-9644-B3017E6F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755E-7C7F-440E-A1EB-0094212E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1BA0-821F-4F53-B8A5-C1FCFD62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519F1-85E6-486D-B744-D4FD5301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71622-46C0-480B-A065-7A32CBC4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DA19A-C8D5-4366-BD01-B34D8F23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E9E71-0484-4918-92C5-932227D4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0418C-BC3C-4C67-AE8E-688736CE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80CE9-F102-4A54-9F1C-178AF5B2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7AB37-5D04-404B-A7D6-9AB1AE4B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7AAAB-F230-4F31-B99B-85D5D97B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9A6-58F9-4E73-95C2-4413691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9BC8A-EFCB-46DA-8CE1-A6E8F464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C940F-FE0C-424E-81ED-B472DF58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AD0A-0459-45F3-BE99-3FEE0D05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01534-63E3-40E3-8818-E256126B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98B4-D379-4DEC-A7D5-474B3C8E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631F0-97B3-4B0E-83D0-4277E0F6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C5A4F-2B58-48A9-9293-4B787FF9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92D99-B74D-4B05-B179-24485244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0671D-9B68-450B-9D6C-CDCE261D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A0084-1B7C-448E-ADB8-B22C25E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E47-F9BD-4EC8-B96C-6B2258E6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3D638-08D3-44EA-BA4D-98198130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A2FE-8B13-4886-98AE-307E870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C39A5-9DF3-4156-8DBF-6F53E5D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E3E73-F3CB-4473-A191-9999D01E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AB713-FDDA-49E1-BA91-B74FBD1E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7ADD1-4283-45FD-9660-B9454167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6F318-0167-42B9-9B67-C7355E3F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D0409-EC3F-4544-9435-DF6E7E55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320F5-4C86-43CF-B463-FE5F35A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FD540-F228-4362-80AE-690DB391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DF5-A2AA-4156-AA0D-DB638812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2AD30-FB33-4D77-A500-3B1DBCF1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8159A-B1B4-41E1-B027-8382CD6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5C40E-B45C-4E1B-BC76-5F4A51FF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53157-6502-438D-A953-F81AC426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35D9A-7A07-4A94-A76E-EC5AB81F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2EE67-51AF-43E6-A09A-0C983942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26037-AF59-41EF-80A6-03E3168A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5060-C586-4F8D-9CE3-A80875BA080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DA2-68E0-47FD-8F58-0F5147C1EC19}" type="slidenum">
              <a:rPr b="0" lang="en-A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8779-7413-4479-A66D-578AC99013E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47DE-28C9-4FCE-B374-9354761FC3E9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48B9-7389-4DD6-828E-C46D1CEA81E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0C82-D180-4FA4-8621-88D7539BC91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6A0F-853A-4E43-BCC8-CDD37B194361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BC2B-0FE9-4F51-8891-302BEAE4467B}" type="slidenum">
              <a:rPr b="0" lang="en-A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5532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Century Gothic"/>
              </a:rPr>
              <a:t>PET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狗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猫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 鸟，鱼，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马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measure word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只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条，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adjective: 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大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我有一只 猫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I have a ca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他有两只小狗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He has two little dog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你有狗吗？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Do you have a dog?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1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eat/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面包，鸡蛋， 牛奶， 咖啡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吃， 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Time phras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早上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早上好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Good morni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吃面包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eat bread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喝 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喝牛奶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drink milk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2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水果，苹果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 果汁，汽水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茶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要， 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Modal particl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要买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要买苹果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呢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about you 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要买苹果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want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3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do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海鲜，菜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鱼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米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饭， 面条，牛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肉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喜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Adverb 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也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喜欢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喜欢吃鱼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like eating fish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也喜欢吃鱼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also like eating fish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喜欢吃肉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like eating mea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cuis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umch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id-Autumn Festival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le-play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rictly 3 (or 2 ) students /grou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ole-play conversations in the restaurant and shop, and talk about favorite food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st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ltural assignment</a:t>
            </a:r>
            <a:r>
              <a:rPr b="0" lang="zh-CN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：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Research one famous Chinese foo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0:59Z</dcterms:created>
  <dc:creator>Education</dc:creator>
  <dc:description/>
  <dc:language>en-US</dc:language>
  <cp:lastModifiedBy>Education</cp:lastModifiedBy>
  <dcterms:modified xsi:type="dcterms:W3CDTF">2010-10-03T06:00:23Z</dcterms:modified>
  <cp:revision>8</cp:revision>
  <dc:subject/>
  <dc:title>TERM FOUR OUTLINE-2010 YEAR 7</dc:title>
</cp:coreProperties>
</file>