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0D6B-A5BF-4C42-8B20-362A52CBA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875B-413D-4946-BE34-25ED4DBA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8550-9E7C-41DF-A657-BC8E8E52B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18BF-5E2F-4098-B06B-F2C080C9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5A09-8F9B-42B5-AC99-C2B2A4DD6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3B6A9-29C4-4D91-914E-B358A855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AA5D-479F-4B8A-8B10-B89EC065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87CB4-91D8-49C0-BCAF-88467710B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F8C8F-83A1-4E23-9CC4-C97BAD510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DEAA-5A6B-4A4A-A5E0-62C0BAD4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75DB0-C0A9-44CA-9767-00997D16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5BF6-5E65-4044-AF02-C6688B94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F20A8-8451-4E9F-A6AA-49C7D294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3403-F992-4ABC-BD79-C218C7F3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03A6-633D-44E1-AEA4-F22EDD28D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9DE2C-1841-4A70-9EB3-ADFF5FC8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464C-9E5C-4688-A905-77FA7809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99B9F-E966-438B-8AA3-1D0362CCC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54087-770D-4DE4-B006-4B5A97674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8908C-62EC-4857-BD09-2BAFE004F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D73C0-A286-4889-8E93-32AFE5A7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C2E51-4985-4618-8346-92F030B2A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7FBA-DADB-479F-BE59-5E21594D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9FAE8-870A-45A9-B8F3-92E6954F6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25A34-061D-4D57-A7B5-995CC03D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1A57A-843D-4DC9-88E6-3CA5BA9E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809B2-188C-4985-922A-D4C01188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99BBB7-43CB-4DDD-9A38-458FAB23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74F7A-D668-4E24-B94B-1A86B4BEB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B374C-14F7-4EDD-9896-2268A60C8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7B5C1-9BBC-4789-B5DC-18B871C06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BA17C-F32C-4677-9E85-EFB2C6A5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AB204-F115-4A18-9A4A-7F67FAAD4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B4C-61BE-4F9B-9E72-5683C4615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8C339-F5F2-4F9E-B055-868309C8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539A0-3C06-4807-9584-2C9DEC0EA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535EC-DDF9-49B9-82D1-E85A9721D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4220A-0BFD-49D9-84A9-6648C6112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652F6-ACBF-4FCE-84C3-C47BD94D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E8E97-21D3-460C-97F9-122E3C83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CA07F-8FA0-4B54-B826-0E989801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6B8E3A-85F9-4B7E-884B-64E1D3AFB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76789-21BE-482C-9778-19A3FFF79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EB7E7-2F54-445B-8D75-4565A9429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5296-B55F-4230-96E9-A1EE70DD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1E5B7-7E08-49BB-9C75-14BF69C7F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383B6-7C9C-4388-A810-57C595CEA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86F180-7379-41FA-A317-84C44588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E42B3-8F48-44F9-8F4D-AEA86E4B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39A09-7489-407D-9607-749D5002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2CBA82-4908-44F2-9111-D85721A0B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4893BD-1B08-469D-A4AC-0D1329F0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5277E-402D-47B4-BD0A-2E6AF97E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3C34F-06EA-4B69-8545-21EA23CF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CC36E-B1DD-4183-B40B-B9A92D9E9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C686-9910-4131-BDBA-7ED6908D5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EAA9A5-4301-4047-975A-50055BE09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2617F-5EF0-4649-B1FE-AD2643C17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C3F83-33A1-4A43-ADF5-D92A4775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5ACBF-24E0-4995-8003-E265ABA36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C7124-3A3C-47D8-851B-4063F8A93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93741-EB3E-4F06-8502-0E6664793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7C2060-91B7-41FA-8995-C748069D7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E6062-37F2-45A9-B615-8D9C5A5B6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59EC0-F355-4E1F-9021-CE0FE9493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3F9FC-12CC-4154-A6B1-220AD001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17A9-C83F-4F81-8481-8CDA2A5A5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C62517-51A4-485A-8C14-062A54BD0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EC03A-1664-4E76-A5C8-465FBCB9A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7A1870-BD8C-4F12-AE80-D6525F65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A0225-C735-458F-8099-B5449128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8DD8A-18C5-4FD2-95DE-53E42EA3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3BE24-608D-41AF-B683-A05C52D17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031A8-67DC-4E2C-A1D5-EACA94AC1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D3CB0-E0A0-483F-8295-F5ACDD8D9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B8B82-A23D-4DCB-8027-D56AC279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FA8B11-3C55-48E1-B66B-9DFF8DE9C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D8E9-046D-425D-9D1D-27786526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2F063-DE86-49FD-A661-76186C88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DA8CB-A06A-4B5E-AD21-7CCBCD945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A3377-77DD-42D6-B5DF-4BA935EC4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F92E2-D0A1-4A28-A1BA-02D2F4974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7AB42F-863A-4FCD-8DFC-FB3771042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24B8C-B383-4C75-B5FF-F1D0BD168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6DD5E-EF7D-4C5B-90FC-D3D7BFDA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88BBE-D065-485F-9240-50970C961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9BA96-5D47-4367-BC3F-1AEB9300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B1D1A1-E4B0-49AC-8BAA-F459310D2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DB59-89B1-46E4-9DD6-3E39693F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AD6F2-3AC9-4201-8AB3-0BF1DFDBA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230CC9-B48A-489A-8528-4ECB250D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AD506E-9B7D-43F5-BD44-9E72477B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48D46A-89C2-4004-BA56-1C219BA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469E34-FD6C-4AA2-B8E3-BC702577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D3E8E1-CF9A-44DE-9CB4-2741512D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863944-83AD-4252-8E31-97BAF84A7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A8264-695D-4EA9-A0EA-0235D325A8D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640D4-2815-45BE-B9A6-8215DAA55B96}" type="slidenum">
              <a:rPr b="0" lang="en-A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23D8-5A41-472C-AFD5-C34A05A84BE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4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5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2911-F839-42D9-B150-F3DEB9F7D086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F243-DD89-4AC3-ABE9-9B88F541A62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BE87-4AF3-4643-A6E6-8CF1D55715B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2A41-1564-4573-BD4B-6D6DAEE7650E}" type="slidenum">
              <a:rPr b="0" lang="en-A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26054-E899-4D5B-9313-AA5AFD4906BE}" type="slidenum">
              <a:rPr b="0" lang="en-A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536400" y="652320"/>
            <a:ext cx="8455320" cy="1597320"/>
          </a:xfrm>
          <a:prstGeom prst="rect">
            <a:avLst/>
          </a:prstGeom>
          <a:ln w="0">
            <a:noFill/>
          </a:ln>
        </p:spPr>
      </p:pic>
      <p:pic>
        <p:nvPicPr>
          <p:cNvPr id="346" name="Subtitle 2" descr=""/>
          <p:cNvPicPr/>
          <p:nvPr/>
        </p:nvPicPr>
        <p:blipFill>
          <a:blip r:embed="rId2"/>
          <a:stretch/>
        </p:blipFill>
        <p:spPr>
          <a:xfrm>
            <a:off x="536400" y="2170080"/>
            <a:ext cx="817416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00"/>
                </a:solidFill>
                <a:latin typeface="Century Gothic"/>
              </a:rPr>
              <a:t>PET 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8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狗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猫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 鸟，鱼，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马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有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measure word: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只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条，匹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adjective:  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大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800" spc="-1" strike="noStrike">
                <a:solidFill>
                  <a:srgbClr val="ff8eba"/>
                </a:solidFill>
                <a:latin typeface="Century Gothic"/>
                <a:ea typeface="幼圆"/>
              </a:rPr>
              <a:t>小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我有一只 猫。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I have a cat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他有两只小狗。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He has two little dogs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你有狗吗？ 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Do you have a dog?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1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would you like to eat/drink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面包，鸡蛋， 牛奶， 咖啡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吃， 喝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Time phrase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早上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早上好。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Good morning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吃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吃面包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eat bread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喝 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drink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喝牛奶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drink milk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2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would you like to buy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水果，苹果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 果汁，汽水，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茶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要， 买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Modal particle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呢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要买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buy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要买苹果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would like to buy apples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呢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about you 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不要买苹果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do not want to buy apples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  </a:t>
            </a:r>
            <a:r>
              <a:rPr b="0" lang="en-AU" sz="2600" spc="-1" strike="noStrike">
                <a:solidFill>
                  <a:srgbClr val="ffff00"/>
                </a:solidFill>
                <a:latin typeface="Century Gothic"/>
              </a:rPr>
              <a:t>FOOD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-3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What do</a:t>
            </a:r>
            <a:r>
              <a:rPr b="0" lang="zh-CN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00"/>
                </a:solidFill>
                <a:latin typeface="Century Gothic"/>
                <a:ea typeface="幼圆"/>
              </a:rPr>
              <a:t>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d519ff"/>
                </a:solidFill>
                <a:latin typeface="Century Gothic"/>
              </a:rPr>
              <a:t>Vocabulary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AU" sz="2600" spc="-1" strike="noStrike">
                <a:solidFill>
                  <a:srgbClr val="ffffff"/>
                </a:solidFill>
                <a:latin typeface="Century Gothic"/>
              </a:rPr>
              <a:t>- nouns: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海鲜，菜，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鱼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，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米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饭， 面条，牛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肉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ect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Verbs: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喜欢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Adverb : </a:t>
            </a:r>
            <a:r>
              <a:rPr b="0" lang="zh-CN" sz="2600" spc="-1" strike="noStrike">
                <a:solidFill>
                  <a:srgbClr val="ff8eba"/>
                </a:solidFill>
                <a:latin typeface="Century Gothic"/>
                <a:ea typeface="幼圆"/>
              </a:rPr>
              <a:t>也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d519ff"/>
                </a:solidFill>
                <a:latin typeface="Century Gothic"/>
                <a:ea typeface="幼圆"/>
              </a:rPr>
              <a:t>Sentences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你喜欢吃什么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What would you like to eat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喜欢吃鱼？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like eating fish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也喜欢吃鱼。 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also like eating fish?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-  </a:t>
            </a:r>
            <a:r>
              <a:rPr b="0" lang="zh-CN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我不喜欢吃肉。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  <a:ea typeface="幼圆"/>
              </a:rPr>
              <a:t>I do not like eating meat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90000"/>
              </a:lnSpc>
              <a:spcBef>
                <a:spcPts val="649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inese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inese cuisin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Yumch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id-Autumn Festival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15476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Role-play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Strictly 3 (or 2 ) students /group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388c"/>
              </a:buClr>
              <a:buSzPct val="95000"/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ole-play conversations in the restaurant and shop, and talk about favorite food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ests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ultural assignment</a:t>
            </a:r>
            <a:r>
              <a:rPr b="0" lang="zh-CN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：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  <a:ea typeface="幼圆"/>
              </a:rPr>
              <a:t>Research one famous Chinese food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3T04:50:59Z</dcterms:created>
  <dc:creator>Education</dc:creator>
  <dc:description/>
  <dc:language>en-US</dc:language>
  <cp:lastModifiedBy>Education</cp:lastModifiedBy>
  <dcterms:modified xsi:type="dcterms:W3CDTF">2010-10-03T06:00:23Z</dcterms:modified>
  <cp:revision>8</cp:revision>
  <dc:subject/>
  <dc:title>TERM FOUR OUTLINE-2010 YEAR 7</dc:title>
</cp:coreProperties>
</file>