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39B5-7ACA-49FF-B4C9-032AEE97C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FD86-7CB7-42F3-A500-672588BF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5B3-86EB-463A-B9C0-B556E4B55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82587-C9D6-4945-B314-FE073D9E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E19A-5A59-4F80-8EDA-64ABFD541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7880B-CAD6-46B6-8037-121FED9CD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1DD03-74D8-40C3-B70B-16805A255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081D1-311B-4B81-B91F-D5E717DD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2A8AD-EF03-45BE-8F7A-3E0220F45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F79C-3AE4-4C8F-9B20-97C06B24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1F21-958B-488E-9BE2-6367BA0E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D944-685F-48D9-86E0-91E6D711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26D3-787B-4A4F-B94B-B404122D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5C08-2A76-4DF7-A12D-DC6AFFB5F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DA071-5DFC-47FF-B99A-5C959838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F55F-7F6E-47F9-96F8-1DF2777E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93EC9-725E-4AC6-8F4E-4790ED23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AD4A6-6B6A-4CAD-BDA9-F7AB9EA0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10B44-04B3-40DC-81C8-46B684FD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C713B-F12C-4F7B-8D93-63AB3581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59149-DD87-42C9-AF2A-BD7D9D4B9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3E2E95-A606-4DB5-AA10-E4EE21E3E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84CD-FD8D-4B3D-BF08-08904BA9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C60D-EAC0-4EDC-9606-D52CFF661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87EF9-E952-46E8-9A81-651AD8D5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D2162-1B4A-49DC-A1AF-54A09F1A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06C9-CA6C-4F4E-AE5C-D20029DD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D5CE7-8FA0-42D8-A880-B42B5DBDA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C99D8-8B87-4C7D-A5CD-C1C16966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D4A09-6881-42A0-821C-F3A6EC12E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F9207-832B-433F-80E0-3742FBBEE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85ED0-14F8-4ADE-B607-60F9B73CD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0BED8C-CE5E-430E-8C5A-3A8409A2D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BED0-E7E3-4B6B-9892-4FC3628F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501996-B8CC-4282-A002-8A1CE241F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5371D-9835-42F9-A879-7D869426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63513-FACF-4492-8808-D7F8F34D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3A877-A475-4F34-A75A-C3749C74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D47C0-AC1E-4F33-AA40-E0416E37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C4CA69-F14C-45BA-91C3-E6706D31D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36E94-1300-48D9-8139-FB556E7D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B6A6-B1B6-4B72-92B6-BFB5EE65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0E670-AA6D-4030-8340-ADC03DFC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5853D-AADD-41B8-82CE-515D94CE7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CD89-FC16-4C7A-ACEF-57D15D161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FA098B-06C1-45F9-922C-0B63DCC2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64B47-6805-41CC-9F76-474BADD1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2F2C-1C23-4116-B04C-9196D7C5E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3491F-E400-4BAC-AC28-247DA249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46AC1-22E6-484C-9B95-5D97FE99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9CBF73-B91B-4690-BB5B-15EB329EF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F5C5EC-C27F-44F6-B78A-51FA07A0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68F5D-7413-44F0-A8C4-E489E9D4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86BCA-C4D0-4046-A074-11752981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EB4EC-32C6-4FCB-8FA9-6C601B1A6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AD3-9500-4E82-AF54-5FBCE1D83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C554F-568A-4703-B1E7-7C008233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4C20C-384C-4E2C-9B98-49D0ADEB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127DB-A6ED-41AD-8513-54B6E4B36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06C4B-8BB9-4147-9EA8-9551EE540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973E4-FB3D-4F13-B950-A669A749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995F5-9586-4FD8-9798-A9A30F89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0D809F-F394-48AF-92B1-5A0D72FA2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23D5B-498B-4023-B453-65C647E9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95691D-A680-4422-96B1-5A9D505B7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A6373-A095-45B9-974D-EE1938B1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64D8-87F5-403D-9D5A-6A46C75C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14B9A-AAD4-45C2-A4D0-BB463945A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0B3AA5-237C-4354-91D4-DF3B7FEE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2AEDE9-5F70-4A5F-9497-DA8A44E15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9EA4A-D27F-46E2-876C-3DE4282C9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CE8D-77F6-4B1B-8721-D717A10F0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066A6-EB0A-4943-935B-D52FFCDB5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A28878-5AC2-4FB9-9CF9-439A2FF6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761B8-0987-493E-9D2F-52532C60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9BFB1D-D1A9-4376-969D-38FEFAAE5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76388-65A6-469F-A9C6-09466E2B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DC76-C7D4-486C-BA6B-9A33C5128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DF34F2-5B45-4D3D-8AD0-B58DA2F33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BDAB1-62C5-4719-A607-A5349C6C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2F3BAC-5B04-46B0-87FB-B9FD947A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50E109-31C7-446F-8669-627C1064D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097F5C-3123-44ED-B857-98D4C765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E4CE8-656E-43B7-BB35-1C6C15B7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DAFA2-1A69-481D-8726-67145145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6C42E-9FAB-4B14-90F8-DE4B0B84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692C8F-DB4A-4D99-AC51-7CFBC907D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D251C-7884-4E7D-98C4-AD27194B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D4B-2F4D-450C-896C-0B15A6CFA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4C019D-ABFF-4BAD-A41F-6A487C595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D9AD4-9B29-4879-BEDA-D7FDB036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D602E-04F4-4F1B-A69D-4DF6BD46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8E3EFE-4682-46D4-A524-B4C7DB0B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46F33-1776-4BF9-8D27-382F7AF0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71B90-C155-4115-93C2-1E214537C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8C1E49-2E82-4E9F-98D1-F8688CD8C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E272-4645-479F-B966-4750C16E9DB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BF92-DDBD-42EC-82AA-5DEB69C41B7A}" type="slidenum">
              <a:rPr b="0" lang="en-A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7284-E2A3-4D3F-A560-024B5539D7F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C9E9-A097-41B2-B29C-F740D2222E3D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6C06-3704-474F-B160-A70B709B1451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0A8B-3C5E-4522-859D-D250F961557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E3BCE-8022-4C02-9157-DF76FF70817D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3D58-55CF-45D6-860E-F751D8E205C8}" type="slidenum">
              <a:rPr b="0" lang="en-A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5532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Century Gothic"/>
              </a:rPr>
              <a:t>PET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狗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猫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 鸟，鱼，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马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measure word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只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条，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adjective: 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大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我有一只 猫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I have a ca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他有两只小狗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He has two little dog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你有狗吗？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Do you have a dog?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1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eat/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面包，鸡蛋， 牛奶， 咖啡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吃， 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Time phras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早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早上好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Good morni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吃面包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eat bread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喝 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喝牛奶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drink milk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2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水果，苹果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 果汁，汽水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茶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要， 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Modal particl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要买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要买苹果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呢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about you 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要买苹果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want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3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do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海鲜，菜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鱼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米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饭， 面条，牛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肉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喜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Adverb 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也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喜欢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喜欢吃鱼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like eating fish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也喜欢吃鱼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also like eating fish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喜欢吃肉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like eating mea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cuis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umch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id-Autumn Festival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le-play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rictly 3 (or 2 ) students /grou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ole-play conversations in the restaurant and shop, and talk about favorite food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st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al assignment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：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Research one famous Chinese foo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0:59Z</dcterms:created>
  <dc:creator>Education</dc:creator>
  <dc:description/>
  <dc:language>en-US</dc:language>
  <cp:lastModifiedBy>Education</cp:lastModifiedBy>
  <dcterms:modified xsi:type="dcterms:W3CDTF">2010-10-03T06:00:23Z</dcterms:modified>
  <cp:revision>8</cp:revision>
  <dc:subject/>
  <dc:title>TERM FOUR OUTLINE-2010 YEAR 7</dc:title>
</cp:coreProperties>
</file>