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101-2F45-409F-AC20-90253E14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77A-ACCD-4C27-9772-CA5331F3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32C-265D-4035-8BDA-2268A5AC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B13-F0FA-4675-9198-BDA81AF1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8B01-D1CF-40EC-8578-BA8CB9C4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B259-5499-4F99-ADA5-B91E1E3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882B-05E7-4B3C-B44C-AA000FB9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2C97-3408-4632-A78E-F3DE3B74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EE03-40AF-457C-BE92-6AEDDA73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2C7B-342C-4AD3-95E3-8E055E02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43A0-B9D4-4D82-BB77-27172FAE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D54-8C89-4FA7-AE58-8E8132F0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15E5-1A91-48C3-B713-E33437F8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4FDB-0523-4DC0-9522-A2272DF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C94E-1037-49DC-8427-CF1869E1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73B5-0DD1-4836-A4DB-730638E4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61CA-77D7-489F-8324-88F95035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8CBB0-F70D-41B5-B76F-6E70486C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B393-40F3-4823-BC70-C239E8BB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0A77-0BC7-4108-9631-474378EE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40845-0246-4F77-9231-99D96D28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3AD8-1DC7-4F77-8B96-028BD3DB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44E-5963-48F9-B6CF-111F4569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6F38-A50B-4706-8EC3-C8BE5D58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DEAA-48E3-4EBF-A8B2-FEEE9015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68DE-EB6A-4791-9EBB-1ABA16F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5D42-5628-4A1D-9379-1754352F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D3A2-BCED-4681-8ADA-98BAA461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C0AD-CEC9-4A93-BBC6-0C3A482C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ABFD-7B32-44BF-A729-3912A6C4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DA402-33E3-40FA-809A-E251DF07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0A98-6371-4B73-818A-FE6AA576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4A8D-9AD5-4FD0-8ADA-6B8A972B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CA4-0D34-44B0-A341-BEC51A3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CBF6-92C7-4035-88C2-8BB8AFDF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7D27-30DA-435A-BE5C-42A819C9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B424-B88B-45BC-B635-A8E3893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9416-5B09-44DE-8B8D-762AACBB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1C3D-E6CF-4192-AE07-08D736C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E561-D019-4F3F-B077-83FA52AB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98F7B-854A-4C2F-A718-0B106364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4E0E0-51C6-41D2-BA4D-60945578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6F5D-63A8-493E-A95A-7A859B64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C7FB-DC42-4012-98E3-9228D8C2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B66-A427-4A95-9DD3-300B6D91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425A3-198E-40C7-B890-F19C7A7A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A802-C33A-4150-8D5F-A183E845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B4AE-8915-4C8D-A1F6-A694A33B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B02E-1F96-4341-AD19-10B9BEF5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874A-C706-47B3-9F30-22CE6EE6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0A218-8D75-41B4-B396-06F081B1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54B90-BE9C-419A-87ED-D5BDA2E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6A03-B05F-4566-AD2E-1C72C33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8FB9-BEA3-4D90-BAA0-5A3AD69A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AF14-1397-4695-A72E-5D9D623A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242-90F9-4147-954F-91290FCD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E8037-74D6-45D2-92F0-CD93E3E2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E03F0-C3B7-48C8-9535-860D1D3A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D3696-032D-40E9-A5E9-9C7C53B7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208A2-E716-4C68-98A5-45F392C9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36577-A3F9-4DA1-83D2-C43261B3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3E727-7EF8-4172-B7FB-BCFEFBD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14FC7-AF98-46EE-AA5D-52846CB1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9DEE-BFED-4E0F-B214-60DEBEEE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9E76C-ED16-46EF-BBBF-419CCF8F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C4B9E-4155-40D6-8371-140C7B1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3DA-23A6-407E-A3B8-95A4C0B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4BE65-C996-4C63-A8C7-38000C4D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5D094-B36B-470D-9E04-30701EF6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9405-B19A-4A32-A6D1-C5460376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CE2E6-3D8C-4B9C-859B-15B99993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642E-7469-4418-BF14-4B4350B2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75C7D-84B5-4861-A2DB-FE2E07D6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81BFD-165D-4E08-B56C-884C66E2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92B6D-5DD8-4CFD-A00F-2C9688DF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7A387-83D8-4216-A6F4-BE69AF3B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6503-393F-457B-91DD-858C7BEC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2CE-B1CB-4812-84A6-CA6D6E7E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5AF88-C3AB-474B-B069-2959D3A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9A6E9-20DD-48EA-A8C3-EEA00EEE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0CCDC-A489-4DF0-83C0-48FBF7FA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9E89A-CA15-4D7B-AF0E-8C8D0C66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C59D8-B01F-4DBF-95F9-A2772039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2708A-5D88-4746-BE9D-DCABD697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9D6A-EC1B-4502-9136-ED3A1141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1BAE2-48B9-49A1-AE48-28AF2D30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470A0-71D0-4256-A102-EE58BDE6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D19F5-421B-461A-B7D7-4E27B6FF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2DB-6FAD-4F38-83EB-3BFD4A2D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B21F8-59D7-413B-8720-5A84CBC7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7622E-688E-420D-8501-B1ED8896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A28B6-07C6-4E83-BA87-B06FCAE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1703E-6BAE-4B78-ADB9-BF9371B8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8563-13AE-47FE-B679-BA9A8CC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A97B3-C131-4085-B090-B4266BF9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7100A-CE5E-4CDF-A68F-9BC2232B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C7BF-A301-44B4-9501-D951B9F54A3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5C16-AC52-453B-9751-5A335E56681A}" type="slidenum">
              <a:rPr b="0" lang="en-A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A259-2E66-464C-8B2F-41034C740FE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172B-83AF-48BD-9875-7B40BE9D3B1B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99C-834B-422E-9607-98C5512F8C7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722-DD3F-4756-8BFF-4B19A54F82E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6B37-D805-4C6B-9757-63554F482718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3AE1-053D-4B1A-B54F-FF9B951D536E}" type="slidenum">
              <a:rPr b="0" lang="en-A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5532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Century Gothic"/>
              </a:rPr>
              <a:t>PET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狗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猫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 鸟，鱼，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马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measure word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只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条，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adjective: 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大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我有一只 猫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I have a ca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他有两只小狗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He has two little dog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你有狗吗？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Do you have a dog?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1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eat/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面包，鸡蛋， 牛奶， 咖啡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吃， 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Time phras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早上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早上好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Good morni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吃面包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eat bread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喝 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喝牛奶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drink milk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2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水果，苹果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 果汁，汽水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茶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要， 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Modal particl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要买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要买苹果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呢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about you 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要买苹果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want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3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do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海鲜，菜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鱼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米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饭， 面条，牛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肉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喜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Adverb 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也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喜欢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喜欢吃鱼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like eating fish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也喜欢吃鱼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also like eating fish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喜欢吃肉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like eating mea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cuis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umch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id-Autumn Festival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le-play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rictly 3 (or 2 ) students /grou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ole-play conversations in the restaurant and shop, and talk about favorite food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st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ltural assignment</a:t>
            </a:r>
            <a:r>
              <a:rPr b="0" lang="zh-CN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：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Research one famous Chinese foo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0:59Z</dcterms:created>
  <dc:creator>Education</dc:creator>
  <dc:description/>
  <dc:language>en-US</dc:language>
  <cp:lastModifiedBy>Education</cp:lastModifiedBy>
  <dcterms:modified xsi:type="dcterms:W3CDTF">2010-10-03T06:00:23Z</dcterms:modified>
  <cp:revision>8</cp:revision>
  <dc:subject/>
  <dc:title>TERM FOUR OUTLINE-2010 YEAR 7</dc:title>
</cp:coreProperties>
</file>