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FEA-AB7B-408B-BA5A-91DBFD06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950-FF5C-46F1-8A8E-E4C507CD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E15-282C-452B-BBD1-2EDC0240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BA1-FB30-4C63-9492-7150C5ED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5719-D434-4BE3-A959-718996A7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F9DE-D93B-499F-8B3E-51A2FA79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424E-EB57-4853-B7BB-3473C65D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71C1-A2CE-40E7-8F6B-E3343465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8FD0-10C5-4521-8689-6C6ED8FA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78DE-0BCC-4B8B-9E71-95B37B6F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9B01-EBAD-4591-BA78-DCCB1C6D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8F5-6081-41B9-A300-1F45411B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7BCD-D055-4CB8-86E4-C8FBEEB7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8164-6CDF-4EB0-A0D7-6FDE4ED0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9E96-E737-43EF-BE9B-0269DB27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BB2A-52E1-49D8-ADDB-AF96A885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004F-B0D6-44C6-A58F-0DC797AE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C159C-7A40-4918-AE11-2445D47D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345D-5EC0-4BD5-8CB1-46ACFEC7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1632-9D47-4828-903C-A1298F1F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B218-E878-492D-8C6D-060E9BC5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3FE82-6EFC-437E-B27B-55B9515B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F47-7C61-452E-90FE-3F8E3A17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3E81-3307-4AC7-B3A0-EDE2B955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8A67-C65B-40E7-95CE-B720C238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FA7A7-249C-44EC-89AD-8F3287DC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A16D-16C6-4703-905E-823632C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7860-3384-4B84-A31E-11336B27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57AE0-959F-4C65-8828-4998F9CE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BCED1-1C26-42DF-880B-DA2A75B5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0CBFE-51C2-4109-835F-06BCA3BF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8C0A1-E57D-42B7-9614-D33856DF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06E5F-C38D-4359-8AC5-BEF8B5FC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F11-1004-47AE-8DD3-9D732093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83708-C754-4283-8B54-249D9A49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E3C5-5557-4C09-828D-0818FF09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6F237-D2C1-42F7-A005-24BE8D13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3992-9635-4CEE-8098-4D899F93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CF563-9ED4-4ACE-B2F4-F90BF013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ADD4-16D2-4FC9-B3C7-B6CE4E28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0D8C7-9751-4066-B8CF-2DEA416E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E13EC-5D08-4729-9FBD-AB32FA5F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E7673-AB19-496E-B0E7-A1DAE0F2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5932A-7352-4263-8E14-40814434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7C8-5E3A-49D6-AD15-C864BFBC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CEC55-4060-46D2-8CAD-CFE0DF66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3EE67-7E7F-44A6-8BB6-AB2BD183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3E68-8068-4D30-BB13-FE8123A0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03EEE-7960-4001-9A45-4BD5F4FC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211C-E175-4D55-B044-9026A4C1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26FFA-0AF3-497B-B47B-A633E67A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2010-99A9-48F9-86CD-E5AF0F4B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992C-24DF-44B8-9FAB-228411BB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03EC7-E3E8-4F6D-ABD3-003B4009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6810-453E-44C6-A941-466C53E3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887-347A-4CF0-96AD-9ED50F42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07892-F187-41B8-A8DF-03F6112C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FCA76-B9D2-4834-922A-27BC5887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B90F9-34CA-4190-9DCA-FD362783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CFA0-496D-4034-9C7F-65414FF9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B7576-ABDC-4625-AC32-1B2C9D92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E1B5B-A30E-4436-ABAE-30A2F3D5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0FF97-2AF2-44FF-96EA-B57D7478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2771F-9448-4D67-BDBE-35581A4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492DC-63A0-4FA3-9071-0F4BB207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79ABD-F17D-42A3-9CA7-D9E3B54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335-301D-4E72-A6E7-B867D98B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86595-BFF9-47C8-B642-ECA3B70B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BDB99-0420-4799-902D-6E255B5A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6174-66BE-4838-AE8E-CBD51558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0E0B8-947A-4FA2-8214-CE674353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9268C-A367-421D-83CD-AE1DED9F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EE7C7-882D-4B36-B9B5-30F579F8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2E0F-FF53-404C-AC6A-AD5E81CE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E725F-B145-4C7C-9836-B1C2FDE9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27CB7-77BE-4D3A-9811-F271A2F3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69EBC-311D-4B5E-8A92-6E07CC03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82C-5000-481C-BED0-B5209B6A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5C263-F618-459C-9C0E-E64B7582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7317C-A729-4BB6-9B30-F3A39335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267F2-78BC-4181-8145-E226DD63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020A1-9FFE-43D9-A884-E5233F7F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E6736-391F-42E3-9570-115EBF6D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88E4C-5A52-4C5F-8B57-0D9BAE97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21C1F-8BDC-4D31-BF72-C97B7149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083BE-F4CC-42DB-923E-73058291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C8655-4725-41DF-A0DC-28716313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9F7AB-2C96-4E39-861A-FFA96CA8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363-3C9B-4B85-B9C3-C677CA3F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494B5-F019-4BEF-B39A-9A65BF39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3AC82-E2ED-48D1-AFC2-CBE96C8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3DFE-D7BF-40A1-95AF-DE43F8D1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05AAF-8B03-4E7F-85E1-7BBD5FA9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84C10-C335-498C-8F8A-FB5D6CB9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57B2E-E863-495D-BF25-739A1070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64ED0-FCC4-4C19-A0CB-A2028D08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704-77F7-485A-8304-CBECDC12E1E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A54D-1654-4D79-BEE2-628321AEADB2}" type="slidenum">
              <a:rPr b="0" lang="en-A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BA34-BF92-463D-A7F1-E3C7C20B1EF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54AE-EDD9-4B55-85BD-F6AE23388CFD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BA49-94C4-4DD5-8683-AA732305285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996D-716E-4168-9114-41F3897C9AB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51A-2B2C-4744-B2B0-686F15CFFEEE}" type="slidenum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9E07-2BF3-41EF-BA9D-0A3CA57551D3}" type="slidenum">
              <a:rPr b="0" lang="en-A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5532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Century Gothic"/>
              </a:rPr>
              <a:t>PET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狗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猫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 鸟，鱼，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马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measure word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只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条，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adjective: 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大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我有一只 猫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I have a cat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他有两只小狗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He has two little dog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你有狗吗？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Do you have a dog?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1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eat/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面包，鸡蛋， 牛奶， 咖啡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吃， 喝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Time phras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早上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早上好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Good morni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吃面包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eat bread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喝 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喝牛奶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drink milk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2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水果，苹果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 果汁，汽水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茶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要， 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Modal particl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要买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要买苹果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呢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about you 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要买苹果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want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3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do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海鲜，菜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鱼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米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饭， 面条，牛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肉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喜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Adverb 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也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喜欢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喜欢吃鱼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like eating fish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也喜欢吃鱼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also like eating fish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喜欢吃肉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like eating meat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cuisin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umch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id-Autumn Festival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ole-play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rictly 3 (or 2 ) students /group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ole-play conversations in the restaurant and shop, and talk about favorite food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est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ltural assignment</a:t>
            </a:r>
            <a:r>
              <a:rPr b="0" lang="zh-CN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：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Research one famous Chinese foo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0:59Z</dcterms:created>
  <dc:creator>Education</dc:creator>
  <dc:description/>
  <dc:language>en-US</dc:language>
  <cp:lastModifiedBy>Education</cp:lastModifiedBy>
  <dcterms:modified xsi:type="dcterms:W3CDTF">2010-10-03T06:00:23Z</dcterms:modified>
  <cp:revision>8</cp:revision>
  <dc:subject/>
  <dc:title>TERM FOUR OUTLINE-2010 YEAR 7</dc:title>
</cp:coreProperties>
</file>