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C94C-FCE9-4E30-9630-8E123F1EF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DCB4-DAB9-4502-AC42-C1B6E2E29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2419-7C55-473D-BD8E-1BE5DDC57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D54F-6109-4D47-B18E-9F1CB4D5E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7010-70B8-4B63-BDEC-6705C0F98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E1639-9555-41AA-BEE5-7212DC3C7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EB65-5D27-4FD6-B463-3F5304286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43B6-CE40-4A70-854C-63E407F92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9395A-6FBB-494D-9160-E1F09E55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137D-E185-42F2-9E5D-07340905D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278FF-4899-4018-A4AB-775EB8AB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67C6-F4AE-48BD-96C7-73E4AECA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C3E7-841B-40D1-9936-201DE881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813B-2EB0-43A2-8CA4-E13C8018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C258-31AD-4EBA-8AC3-9E310415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F74F-08BE-48F7-8705-A8EAFCBA4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5A3D-251A-4394-A4CB-D0EC739EC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763C9-6A11-4924-AD87-DC0913248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323DA-9D8B-4647-A716-E0D3892E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35B5E-EFC9-4284-B8FC-0CE22E69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6BE9B-7711-46C1-B60B-2302A34D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8D1D6-A2D8-45CC-9F33-4BD9FB00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8DBA-D5D6-4DB7-93F7-CED87F3FC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13C69-52AD-4E06-81E2-76E655459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33047-D79E-4975-BA8C-5AA888E5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8BA73-D3C3-4F40-94E1-4CE8B5F3F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B11EF-FCC0-4241-BDE9-BA723FC7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17FF2-F2A0-47B8-B9F2-8BAEB9D6F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81A774-9F48-4C2E-A36A-3D01C7414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E7377-5754-4301-BA61-41D8AEC46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F40CC-0D0C-4499-93A6-9F370E073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166D2-68AE-4071-8060-2564B691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D16B3-5C08-44A6-B2AE-1E6E1A093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6A30-33A8-47B1-8F4C-6DD25565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E824FC-7506-4327-97EE-59BA5ACE9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23CEE-F2E9-4E32-A4B6-D0D49B5E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6868BD-9D0B-4BCB-95A8-17A2E983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DC7BC-A41B-4C6F-9693-E357345EC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F951D1-8575-4E19-9FA3-ADC3152F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E1449-0B78-41B0-AA0C-505703E3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AFC55-F0C7-4EBE-AC8E-79CAC596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192B08-1264-425C-A7BD-CD5253D26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CAB24-5703-477E-BA3C-D230DDF9A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C55E7-11B7-4589-895D-F7F6833A6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4CA7-3ED6-4605-B3FB-5916B0F4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0BDE9-896D-4A89-9009-F986C09C5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E21EC-CDFE-4BB7-829F-81B52A425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D2AA8-E180-4638-A09E-42AFA8C4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E05C6-5FD2-4C67-A70D-C7074AFC0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B3ADB-EA7D-40BB-A3C8-07EE77307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A97F4-BE56-4820-8B0F-CB22C026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5B386-4596-48CB-A2DC-A7DE0374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620E44-F220-45AB-92D4-88C2AAC8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49CB42-6B65-4208-8417-DF6AC01E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64535-2BBC-4A0C-B88C-A6CE063FB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D10E-544E-45C3-9EFA-243D46EBF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3BF43C-1995-4521-AE14-25B82E2A9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87F75C-BC65-4B46-AD93-AFE7351BE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D5A5E-C169-4FCF-B1A6-6A85408BA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C508FD-222A-4BE4-AC28-E2D98E2E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9E0A1-8CD2-4BBC-BF60-58F2EFA76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74385-73CB-4E29-B0F8-F4392AE7A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7F5F7-C7EF-4813-8187-C0817C873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C0DEE-36C7-466F-99D6-7F0B44F1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AD655-B575-4E93-A809-F79371476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CDDC2-9D5E-4244-8C87-79493875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B959-503A-466C-864C-716063E30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A71BD-F332-4D4F-A1B0-32C614197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B3D3D6-5190-434C-A8D2-070745DE0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ED744-A4E2-4B77-A487-092BF7394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A9E744-1D3F-4945-A732-F663EA4E0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5C5BAE-F78A-4CAE-83AF-FCFC45CAC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02D6D-BA7C-4DB5-8046-2C77F924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EE63E-57EE-40B0-9DF3-F27132C9E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D2BCD-8050-45C5-8B1E-F315B0BC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395057-3917-4688-8437-61CCECEA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C26AB-95FE-40D1-8921-FAAEB4B7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1B6F-B529-43B9-AA68-C30604AE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24694-7C18-497F-970C-38B33A7C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FC784-D8E3-4C02-8C2B-49A6201D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CD714-A5AE-44C0-96D3-3AAE8AF4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C7C6C6-D02D-48E3-B9BB-459573E78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0656B-D086-4729-8431-73A0566C0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F0EE4-18D1-40FB-853E-ABF5B3650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8D172D-9B85-4617-90E5-51DF53820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E4E34-2670-4A31-85E5-0268F52A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421C32-AACE-4CDA-8372-C8B3EC7A5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80A405-E012-4977-BDC9-81C6F42F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A6A1-E873-41B2-ACAB-2F945B09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D02819-C9A2-4255-A0A8-58A9A8B4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7C365-71A8-42A5-8701-66BD16A1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209A29-029C-48CE-8163-F809F089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7449D-CBF7-4E5C-8939-64BB69EE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3C4E7-8E5B-4D77-BBF2-3E694263E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D579D-3E12-4B68-9F47-F9042B054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3FB61-D39E-4B02-9213-42C9F8BF5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53D39-2767-450C-94C6-94D946051F45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A7B5-6EA5-4872-9C44-17CA0D632154}" type="slidenum">
              <a:rPr b="0" lang="en-A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8D6F-A7BD-435E-875D-35BF3E5160D6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2F8A-95F8-4403-B731-600EE7332781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635F-7EC3-469C-A901-C6D220CB3D58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1FB3-164C-409C-BC2B-AD315431DD5C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48D05-B364-428C-8430-67D1FB74BBEF}" type="slidenum"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03AB-4262-4ED5-824E-0D186E5D058F}" type="slidenum">
              <a:rPr b="0" lang="en-A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536400" y="652320"/>
            <a:ext cx="8455320" cy="1597320"/>
          </a:xfrm>
          <a:prstGeom prst="rect">
            <a:avLst/>
          </a:prstGeom>
          <a:ln w="0">
            <a:noFill/>
          </a:ln>
        </p:spPr>
      </p:pic>
      <p:pic>
        <p:nvPicPr>
          <p:cNvPr id="346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Century Gothic"/>
              </a:rPr>
              <a:t>PET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d519ff"/>
                </a:solidFill>
                <a:latin typeface="Century Gothic"/>
              </a:rPr>
              <a:t>Vocabulary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Century Gothic"/>
              </a:rPr>
              <a:t>- nouns: </a:t>
            </a:r>
            <a:r>
              <a:rPr b="0" lang="zh-CN" sz="2800" spc="-1" strike="noStrike">
                <a:solidFill>
                  <a:srgbClr val="ff8eba"/>
                </a:solidFill>
                <a:latin typeface="Century Gothic"/>
                <a:ea typeface="幼圆"/>
              </a:rPr>
              <a:t>狗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，</a:t>
            </a:r>
            <a:r>
              <a:rPr b="0" lang="zh-CN" sz="2800" spc="-1" strike="noStrike">
                <a:solidFill>
                  <a:srgbClr val="ff8eba"/>
                </a:solidFill>
                <a:latin typeface="Century Gothic"/>
                <a:ea typeface="幼圆"/>
              </a:rPr>
              <a:t>猫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， 鸟，鱼， </a:t>
            </a:r>
            <a:r>
              <a:rPr b="0" lang="zh-CN" sz="2800" spc="-1" strike="noStrike">
                <a:solidFill>
                  <a:srgbClr val="ff8eba"/>
                </a:solidFill>
                <a:latin typeface="Century Gothic"/>
                <a:ea typeface="幼圆"/>
              </a:rPr>
              <a:t>马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ec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- Verbs: </a:t>
            </a:r>
            <a:r>
              <a:rPr b="0" lang="zh-CN" sz="2800" spc="-1" strike="noStrike">
                <a:solidFill>
                  <a:srgbClr val="ff8eba"/>
                </a:solidFill>
                <a:latin typeface="Century Gothic"/>
                <a:ea typeface="幼圆"/>
              </a:rPr>
              <a:t>有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measure word: </a:t>
            </a:r>
            <a:r>
              <a:rPr b="0" lang="zh-CN" sz="2800" spc="-1" strike="noStrike">
                <a:solidFill>
                  <a:srgbClr val="ff8eba"/>
                </a:solidFill>
                <a:latin typeface="Century Gothic"/>
                <a:ea typeface="幼圆"/>
              </a:rPr>
              <a:t>只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，条，匹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- adjective:  </a:t>
            </a:r>
            <a:r>
              <a:rPr b="0" lang="zh-CN" sz="2800" spc="-1" strike="noStrike">
                <a:solidFill>
                  <a:srgbClr val="ff8eba"/>
                </a:solidFill>
                <a:latin typeface="Century Gothic"/>
                <a:ea typeface="幼圆"/>
              </a:rPr>
              <a:t>大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，</a:t>
            </a:r>
            <a:r>
              <a:rPr b="0" lang="zh-CN" sz="2800" spc="-1" strike="noStrike">
                <a:solidFill>
                  <a:srgbClr val="ff8eba"/>
                </a:solidFill>
                <a:latin typeface="Century Gothic"/>
                <a:ea typeface="幼圆"/>
              </a:rPr>
              <a:t>小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19ff"/>
                </a:solidFill>
                <a:latin typeface="Century Gothic"/>
                <a:ea typeface="幼圆"/>
              </a:rPr>
              <a:t>Sentences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我有一只 猫。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I have a cat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他有两只小狗。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He has two little dog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你有狗吗？ 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Do you have a dog?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00"/>
                </a:solidFill>
                <a:latin typeface="Century Gothic"/>
              </a:rPr>
              <a:t>  </a:t>
            </a:r>
            <a:r>
              <a:rPr b="0" lang="en-AU" sz="2600" spc="-1" strike="noStrike">
                <a:solidFill>
                  <a:srgbClr val="ffff00"/>
                </a:solidFill>
                <a:latin typeface="Century Gothic"/>
              </a:rPr>
              <a:t>FOOD</a:t>
            </a:r>
            <a:r>
              <a:rPr b="0" lang="en-US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-1</a:t>
            </a:r>
            <a:r>
              <a:rPr b="0" lang="zh-CN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What would you like to eat/drink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d519ff"/>
                </a:solidFill>
                <a:latin typeface="Century Gothic"/>
              </a:rPr>
              <a:t>Vocabulary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AU" sz="2600" spc="-1" strike="noStrike">
                <a:solidFill>
                  <a:srgbClr val="ffffff"/>
                </a:solidFill>
                <a:latin typeface="Century Gothic"/>
              </a:rPr>
              <a:t>- nouns: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面包，鸡蛋， 牛奶， 咖啡，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ec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Verbs: 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吃， 喝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Time phrase: 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早上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519ff"/>
                </a:solidFill>
                <a:latin typeface="Century Gothic"/>
                <a:ea typeface="幼圆"/>
              </a:rPr>
              <a:t>Sentences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早上好。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Good morning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你吃什么？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What would you like to eat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我吃面包？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I would like to eat bread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你喝 什么？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What would you like to drink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我喝牛奶。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I would like to drink milk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00"/>
                </a:solidFill>
                <a:latin typeface="Century Gothic"/>
              </a:rPr>
              <a:t>  </a:t>
            </a:r>
            <a:r>
              <a:rPr b="0" lang="en-AU" sz="2600" spc="-1" strike="noStrike">
                <a:solidFill>
                  <a:srgbClr val="ffff00"/>
                </a:solidFill>
                <a:latin typeface="Century Gothic"/>
              </a:rPr>
              <a:t>FOOD</a:t>
            </a:r>
            <a:r>
              <a:rPr b="0" lang="en-US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-2</a:t>
            </a:r>
            <a:r>
              <a:rPr b="0" lang="zh-CN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What would you like to buy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d519ff"/>
                </a:solidFill>
                <a:latin typeface="Century Gothic"/>
              </a:rPr>
              <a:t>Vocabulary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AU" sz="2600" spc="-1" strike="noStrike">
                <a:solidFill>
                  <a:srgbClr val="ffffff"/>
                </a:solidFill>
                <a:latin typeface="Century Gothic"/>
              </a:rPr>
              <a:t>- nouns: 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水果，苹果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， 果汁，汽水， 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茶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，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ec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Verbs: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 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要， 买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Modal particle: 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呢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519ff"/>
                </a:solidFill>
                <a:latin typeface="Century Gothic"/>
                <a:ea typeface="幼圆"/>
              </a:rPr>
              <a:t>Sentences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你要买什么？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What would you like to buy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我要买苹果？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I would like to buy apples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你呢？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What about you 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我不要买苹果。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I do not want to buy apples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00"/>
                </a:solidFill>
                <a:latin typeface="Century Gothic"/>
              </a:rPr>
              <a:t>  </a:t>
            </a:r>
            <a:r>
              <a:rPr b="0" lang="en-AU" sz="2600" spc="-1" strike="noStrike">
                <a:solidFill>
                  <a:srgbClr val="ffff00"/>
                </a:solidFill>
                <a:latin typeface="Century Gothic"/>
              </a:rPr>
              <a:t>FOOD</a:t>
            </a:r>
            <a:r>
              <a:rPr b="0" lang="en-US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-3</a:t>
            </a:r>
            <a:r>
              <a:rPr b="0" lang="zh-CN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What do</a:t>
            </a:r>
            <a:r>
              <a:rPr b="0" lang="zh-CN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you like to eat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d519ff"/>
                </a:solidFill>
                <a:latin typeface="Century Gothic"/>
              </a:rPr>
              <a:t>Vocabulary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AU" sz="2600" spc="-1" strike="noStrike">
                <a:solidFill>
                  <a:srgbClr val="ffffff"/>
                </a:solidFill>
                <a:latin typeface="Century Gothic"/>
              </a:rPr>
              <a:t>- nouns: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海鲜，菜， 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鱼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，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米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饭， 面条，牛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肉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ec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Verbs: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喜欢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Adverb : 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也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519ff"/>
                </a:solidFill>
                <a:latin typeface="Century Gothic"/>
                <a:ea typeface="幼圆"/>
              </a:rPr>
              <a:t>Sentences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你喜欢吃什么？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What would you like to eat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我喜欢吃鱼？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I like eating fish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我也喜欢吃鱼。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I also like eating fish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我不喜欢吃肉。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I do not like eating meat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inese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inese cuisin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Yumch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id-Autumn Festival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Role-play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trictly 3 (or 2 ) students /group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role-play conversations in the restaurant and shop, and talk about favorite food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ests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ultural assignment</a:t>
            </a:r>
            <a:r>
              <a:rPr b="0" lang="zh-CN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：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Research one famous Chinese food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04:50:59Z</dcterms:created>
  <dc:creator>Education</dc:creator>
  <dc:description/>
  <dc:language>en-US</dc:language>
  <cp:lastModifiedBy>Education</cp:lastModifiedBy>
  <dcterms:modified xsi:type="dcterms:W3CDTF">2010-10-03T06:00:23Z</dcterms:modified>
  <cp:revision>8</cp:revision>
  <dc:subject/>
  <dc:title>TERM FOUR OUTLINE-2010 YEAR 7</dc:title>
</cp:coreProperties>
</file>